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8E7-7E99-4877-ADF6-E63271F6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91F-BF0B-4C96-A6EE-F67B3DD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D1C-D5FB-475E-90EA-31B66F32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02E-1A89-41C7-8ECA-1B3441AD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C221-0E68-4E37-B0F3-D4F0BAE2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4492-2794-4963-87DA-61BCD83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217D-F943-4449-B467-34808F4E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A6A2-05D8-418D-A562-4CBBC44A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4942-67C3-44E0-AF8A-0876240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0B0A-01B1-423D-880C-87F1450D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B44-8D2B-4B87-A18E-B3798CF3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232-2E22-4EEB-9F0B-80A6DF0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C500-D78E-4B21-B768-E019C2F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1E3A-0145-44B6-8164-8736E80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EE29-E730-439D-93E4-440D6ED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62A-F84A-4BDD-92BD-58355292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F1E-3C50-4507-801F-9BD2D04A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63F-2D97-4D99-AC3A-CBE2E49C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B0F8-14F4-4F41-A37F-DD88F36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3AB-99F3-4C0F-92D5-9B97139E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8CA-C04E-4FE0-BA6C-E358717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F29-DE87-4F64-AFCE-775E577A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873-A461-4FB2-BB78-D2EBB25F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7104-B848-438A-BEB0-9B9A893C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FE19-A2C8-4573-A0E3-55704118EE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9D0-D58C-4C68-9393-EDE35C8EE7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e and see King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thur!!!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5920" y="1719360"/>
            <a:ext cx="602928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012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King Arthur and The Nights of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Round Tabl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031840" y="1719360"/>
            <a:ext cx="50803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dy of the La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78080" y="1719360"/>
            <a:ext cx="2786040" cy="44114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90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Arial Black"/>
              </a:rPr>
              <a:t>King Arthur</a:t>
            </a:r>
            <a:r>
              <a:rPr b="1" lang="en-US" sz="4500" spc="-1" strike="noStrike">
                <a:solidFill>
                  <a:srgbClr val="330066"/>
                </a:solidFill>
                <a:latin typeface="Arial"/>
              </a:rPr>
              <a:t> </a:t>
            </a:r>
            <a:br>
              <a:rPr sz="4500"/>
            </a:br>
            <a:r>
              <a:rPr b="1" lang="en-US" sz="4500" spc="-1" strike="noStrike">
                <a:solidFill>
                  <a:srgbClr val="330066"/>
                </a:solidFill>
                <a:latin typeface="Arial Black"/>
              </a:rPr>
              <a:t>the movie</a:t>
            </a:r>
            <a:br>
              <a:rPr sz="4500"/>
            </a:br>
            <a:r>
              <a:rPr b="1" lang="en-US" sz="4500" spc="-1" strike="noStrike">
                <a:solidFill>
                  <a:srgbClr val="330066"/>
                </a:solidFill>
                <a:latin typeface="comic"/>
              </a:rPr>
              <a:t>coming July 7</a:t>
            </a:r>
            <a:r>
              <a:rPr b="1" lang="en-US" sz="4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3049560"/>
            <a:ext cx="6640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aitlynn Brigg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ie Created By: Antoine Fu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5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d the book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King Arthur: Dark Age Warrior and Mythic H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King Arthur and The Round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0400" y="2743200"/>
            <a:ext cx="2286000" cy="349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Bauhaus 93"/>
              </a:rPr>
              <a:t>King Arthu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51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eat K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eat war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falls in love with Guinevere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2203560"/>
            <a:ext cx="403560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UINEVE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eisty warrio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 falls in love with King Arthur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56240" y="2111400"/>
            <a:ext cx="40352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rli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835200" y="1719360"/>
            <a:ext cx="3279600" cy="4411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51200" y="1719360"/>
            <a:ext cx="4035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ed King Arthur when he was a b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helps Arthur become k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36960" cy="44114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e Lancelot hit to the death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ing Arthur and Guinevere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630440" y="1719360"/>
            <a:ext cx="5881680" cy="4411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Soared in the Stone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844720" y="1719360"/>
            <a:ext cx="3452760" cy="441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5:49:48Z</dcterms:created>
  <dc:creator>215007</dc:creator>
  <dc:description/>
  <dc:language>en-US</dc:language>
  <cp:lastModifiedBy>215007</cp:lastModifiedBy>
  <dcterms:modified xsi:type="dcterms:W3CDTF">2010-02-05T19:34:47Z</dcterms:modified>
  <cp:revision>7</cp:revision>
  <dc:subject/>
  <dc:title>King Arthur  the movie coming July 7 </dc:title>
</cp:coreProperties>
</file>